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38B0-9DC5-4597-9578-4663BDD55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CD98-43BD-40ED-A1CF-15C90CD64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602A-C726-48DF-82B5-092E8A37D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17DF-C556-4515-8D2F-AD712290E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A779-F168-4777-9B61-3D70504F7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7434-2B67-44EF-8EFF-4BF11F305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A243-56DB-4A35-91C0-7BDA1CB5D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5F01-606E-45D9-9D70-A2969CE15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5AAF-E472-4AFB-A9AA-7A6C69D9B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A30C-ABA3-4EEB-BFF1-A3939CDC2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E51C-A064-441B-AA80-39E4C5193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225B-2063-49C1-812C-AC82B9CAF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B2278-E748-407D-B16D-049958AC14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d Scarf Gir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ritten By: Ji-Li Jia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pers by Kile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"/>
          <p:cNvSpPr/>
          <p:nvPr/>
        </p:nvSpPr>
        <p:spPr>
          <a:xfrm>
            <a:off x="228600" y="228600"/>
            <a:ext cx="1981080" cy="1066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hairman Mao Launches the Cultural Revolu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2"/>
          <p:cNvSpPr/>
          <p:nvPr/>
        </p:nvSpPr>
        <p:spPr>
          <a:xfrm>
            <a:off x="304920" y="2133720"/>
            <a:ext cx="2514600" cy="1600200"/>
          </a:xfrm>
          <a:prstGeom prst="roundRect">
            <a:avLst>
              <a:gd name="adj" fmla="val 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Ji-Li Jiang is from a black family in a perfect communism society and her grandfather is a landlord so she was hate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228600" y="4114800"/>
            <a:ext cx="228600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Ji-Li Jiang is not excepted to be a Red guard because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of her family backgroun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3429000" y="2743200"/>
            <a:ext cx="1828800" cy="1143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nger and frustration with the worl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" name="Straight Arrow Connector 8"/>
          <p:cNvCxnSpPr>
            <a:stCxn id="43" idx="3"/>
          </p:cNvCxnSpPr>
          <p:nvPr/>
        </p:nvCxnSpPr>
        <p:spPr>
          <a:xfrm>
            <a:off x="2209320" y="762120"/>
            <a:ext cx="1220040" cy="2286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8" name="Straight Arrow Connector 10"/>
          <p:cNvCxnSpPr>
            <a:stCxn id="44" idx="3"/>
            <a:endCxn id="46" idx="1"/>
          </p:cNvCxnSpPr>
          <p:nvPr/>
        </p:nvCxnSpPr>
        <p:spPr>
          <a:xfrm>
            <a:off x="2819160" y="2933280"/>
            <a:ext cx="610200" cy="381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9" name="Straight Arrow Connector 12"/>
          <p:cNvCxnSpPr/>
          <p:nvPr/>
        </p:nvCxnSpPr>
        <p:spPr>
          <a:xfrm flipV="1">
            <a:off x="2590920" y="3580920"/>
            <a:ext cx="838800" cy="1448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0" name="Smiley Face 13"/>
          <p:cNvSpPr/>
          <p:nvPr/>
        </p:nvSpPr>
        <p:spPr>
          <a:xfrm>
            <a:off x="5638680" y="228600"/>
            <a:ext cx="2667240" cy="2895480"/>
          </a:xfrm>
          <a:prstGeom prst="smileyFace">
            <a:avLst>
              <a:gd name="adj" fmla="val -4652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d0d"/>
                </a:solidFill>
                <a:latin typeface="Calibri"/>
              </a:rPr>
              <a:t>Ji-Li Jiang decides to blame fate for all the bad that has happened even though she has gone throug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14"/>
          <p:cNvSpPr/>
          <p:nvPr/>
        </p:nvSpPr>
        <p:spPr>
          <a:xfrm>
            <a:off x="6324480" y="3505320"/>
            <a:ext cx="1905120" cy="990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er friends  grandma  commits suic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2" name="Straight Arrow Connector 16"/>
          <p:cNvCxnSpPr/>
          <p:nvPr/>
        </p:nvCxnSpPr>
        <p:spPr>
          <a:xfrm flipV="1">
            <a:off x="5257800" y="1980720"/>
            <a:ext cx="381600" cy="991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3" name="Straight Arrow Connector 19"/>
          <p:cNvCxnSpPr>
            <a:endCxn id="51" idx="1"/>
          </p:cNvCxnSpPr>
          <p:nvPr/>
        </p:nvCxnSpPr>
        <p:spPr>
          <a:xfrm>
            <a:off x="5257440" y="3429000"/>
            <a:ext cx="1067400" cy="572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4" name="Rectangle 21"/>
          <p:cNvSpPr/>
          <p:nvPr/>
        </p:nvSpPr>
        <p:spPr>
          <a:xfrm>
            <a:off x="5562720" y="4876920"/>
            <a:ext cx="2438280" cy="990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er house is searched by the Red guards and is very much destroye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Straight Arrow Connector 23"/>
          <p:cNvCxnSpPr>
            <a:endCxn id="54" idx="1"/>
          </p:cNvCxnSpPr>
          <p:nvPr/>
        </p:nvCxnSpPr>
        <p:spPr>
          <a:xfrm>
            <a:off x="5256720" y="3733560"/>
            <a:ext cx="305640" cy="1639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9T17:55:07Z</dcterms:created>
  <dc:creator>ITSUser</dc:creator>
  <dc:description/>
  <dc:language>en-US</dc:language>
  <cp:lastModifiedBy>ITSUser</cp:lastModifiedBy>
  <dcterms:modified xsi:type="dcterms:W3CDTF">2009-11-19T18:15:18Z</dcterms:modified>
  <cp:revision>3</cp:revision>
  <dc:subject/>
  <dc:title>Red Scarf Girl</dc:title>
</cp:coreProperties>
</file>